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2B9-F4CD-49CD-B060-4E405269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A11-EC07-4FEC-AF6F-BFABBBDA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EEDE-EA8E-41D4-974F-DE81C63E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862-24AA-4A0C-94FC-59F0AF58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25D-C463-40C0-82FD-B259F51F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A45-EDBA-400C-9D89-95DD8840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38E-DC27-4729-949A-03BF4F2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D6D-79CB-41C7-9796-3A45891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3EF-410E-432D-B5C6-3EF91C78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E34-14C9-4E13-A369-8B30BB13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812-520F-440E-AECE-6044281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3A7-780C-42B8-9F95-D6F38F48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5475-2505-4A26-93B2-A0AE86EF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28960" y="3105000"/>
            <a:ext cx="5086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siunea Iunie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d52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7b2</cp:lastModifiedBy>
  <dcterms:modified xsi:type="dcterms:W3CDTF">2012-06-18T10:55:53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